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9.wmf" ContentType="image/x-wmf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png" ContentType="image/png"/>
  <Override PartName="/ppt/media/image11.wmf" ContentType="image/x-wmf"/>
  <Override PartName="/ppt/media/image30.wmf" ContentType="image/x-wmf"/>
  <Override PartName="/ppt/media/image32.wmf" ContentType="image/x-wmf"/>
  <Override PartName="/ppt/media/image5.png" ContentType="image/png"/>
  <Override PartName="/ppt/media/image13.wmf" ContentType="image/x-wmf"/>
  <Override PartName="/ppt/media/image33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12.wmf" ContentType="image/x-wmf"/>
  <Override PartName="/ppt/media/image36.wmf" ContentType="image/x-wmf"/>
  <Override PartName="/ppt/media/image37.wmf" ContentType="image/x-wmf"/>
  <Override PartName="/ppt/media/image38.png" ContentType="image/png"/>
  <Override PartName="/ppt/media/image9.jpeg" ContentType="image/jpeg"/>
  <Override PartName="/ppt/media/image23.wmf" ContentType="image/x-wmf"/>
  <Override PartName="/ppt/media/image10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31.wmf" ContentType="image/x-wmf"/>
  <Override PartName="/ppt/media/image7.jpeg" ContentType="image/jpeg"/>
  <Override PartName="/ppt/media/image6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B6DF-81BA-4022-BBE5-47FD5EA5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4467-29FE-43E5-8D71-7D491A36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4F522-92F2-4681-B0D7-19156E70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695FA-4BE5-4564-AEF4-E2E75B27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D8D84-2613-48FE-A736-04DEF087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63E6D-2051-4F91-A98A-136E5C1F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9514D-2804-4F35-BA13-1462EED2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AAE4F-2C8E-46B8-9C03-B3F6A992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D04D5-A9D6-4AAA-B0CB-449E04CB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97987-0B4A-4F14-A3C4-588CEF9B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608D9-1CB7-4950-9113-660ABBDF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724BF-6FE1-4B49-9EAA-250CBC49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CC2F-D330-4199-A904-101A6B49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D106C-BEE4-43A7-9AF5-5F586DE4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00C8C-7862-4B68-950F-A489C17C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CBC05-883B-4DB4-BC93-B81A7D7C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832DC-5A5B-4890-BE1A-2A0BDBA8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C5CC3-9ECA-4DB1-A18A-37916270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115E3-0CE2-4F51-BE0E-A14CDAE5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6FC5E-6231-4DB1-960A-564BC321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80A0C-BD64-46A1-8462-79FC30AF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AC9BD-1B52-4266-BD49-7B968180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A93C6-6251-4C24-88F7-43440209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D7CE-BE28-4BA5-B492-C04C6059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AD337-C718-457D-807F-24A401E5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3B198-AEC1-4CB2-B045-3A7F6417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A662D-3C45-430D-8C8C-F31302F1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5E194-556A-4CE4-BA07-62FDE58C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F9A69-ADC1-4F38-BCE2-C757A008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D05B9-0B87-4AED-85B8-BDE2BC72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C47EB-F27B-4607-9690-243E3C45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210D3-E921-4D33-B86D-86CCCDCE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D470C-3BE9-4533-A115-D9C574C3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8E4EE-DD22-480D-9466-74D2AEA8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1EA32-F765-43A5-AAC0-BFF6AE4F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9BCB3-EE4E-4BFD-A7E0-47CD3C33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6526B-F322-4407-AB4F-92F4195D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3E77F-DBB7-40C3-B165-0D983E7F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D8BAF-80CF-4DB0-85FA-2BBB9B28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3B97D-27A3-484F-8592-BF1F90B4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055D1-C7AB-4163-A2B1-CF1465FA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BE364-46D2-4C62-AC46-FC6D52AD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BBF4F-4C40-45B0-BF18-0F091245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C6117-EDB3-4413-B2D2-317C4DA5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7AAE8-A52E-413F-B1E4-027DCB33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F0A5D-AD6F-418C-A486-6A022ADB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982E7-3C98-4EC8-A4E2-84F9AA1E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591DE-7618-4BC8-84B2-DC7193C9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1AFA1-170C-4D81-99E2-674A1710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99403-A5B2-4ED4-AD8F-99E009F8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1BCEC-B591-4809-95C7-2DA259FD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71D857-2868-4A8C-9006-55C5B1E3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A142E-5165-4C91-B47E-D932F116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0CF3BD-294C-463D-BDBC-8EECBFE4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E5F9D-1ED6-43DA-83EF-0CD9E3C2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ED24D3-8854-4CF4-8718-02F9F0A6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88AA2-29A1-49F9-A561-25E6A5FE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D77FB-F01E-4265-82EA-34F1B837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F1716-123B-47B4-9DCA-4A41B0DE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CEB704-8DD6-46D6-A470-9D00FCE9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1436BD-2655-45E1-B0D1-AB129C6D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888F43-2613-4A96-B668-3412E09E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C595E-EA4F-49EB-856A-17186F65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7822A4-756F-4A5F-AED4-DC6FDE2A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46EEE2-9A4D-4529-A5A1-436FA71C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5D83A2-ED30-42C3-BD82-7FD6A5FB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A8167D-E590-4BF3-8D64-B56FF936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BBF66-5C1A-480C-AA10-9602A908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E9EDBE-5DB1-4015-9526-4BF8DD90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DE9312-8AAD-478E-96D3-11634E18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9BCD1C-33B5-4314-AB68-6DFC5FAD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50DF78-38D6-4062-A6D4-DE06804C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3059E2-94FB-4BFB-92AC-3ECE4F90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5C1274-EE74-443E-87CC-814B0A11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DFE596-C990-493A-8108-98F9AED2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6A1C28-A2D2-4FDE-BBDA-44281767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9D2629-5B19-4C4E-8B00-3A1AC2ED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644372-232B-490A-9172-93FEEB3B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24436-D49C-4236-8232-1B281523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C1D6E9-DD7F-480D-81F7-758679D4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84BC47-A73D-4C3D-A03E-8E072D86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94227F-142D-4F98-9823-988ACDA9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F2D7C7-2283-4761-8FEE-05EB61CC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D13A5C-A7FE-4B5B-88EC-1B563B86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BBA3D3-EA53-412B-A47E-CE545A19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27D487-A4B9-4160-B94D-DD2BE7DD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7786F1-8168-4E73-96DC-A3E926FB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9C9F8F-A363-4FCB-83AB-5778177C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14331B-C2B2-4B38-B77A-764A9389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CA71B-8F34-4907-BB98-148C9EAC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B2560B-096C-422F-B131-94E150FE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A9855C-697A-4D75-82DC-2812E3F5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AAACE4-7EEB-45B9-872F-A57E0BE2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3671F7-920B-440E-A1FC-E4E63F21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3EE767-6746-44B9-9775-A5B1480A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02DD8-0F4F-433C-A4C2-BA121B00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476AAF-1344-4826-B4E1-B6186447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EE9DFF-4EA5-49B8-9F12-87B5B665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0C159B-19A5-4D55-9808-F941CCDB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0AAF67-6806-40CF-A2FA-9A57D674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5BEA7-4329-4DC2-B7AF-45FBFC05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426824-9F03-4BB9-B294-78E2C16F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FEB80C-96A2-4093-8085-B6B53216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44C185-5116-410D-8D40-F120B184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7EE7-2DA2-4AFC-BA00-76F89EC3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52A30-2EE7-4A86-9E5A-D83BF5E9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0EB5D-4904-44C1-8707-ACD7CD8A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DD7CA-5577-4881-8704-F69D61C2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06E22-8225-43DF-86E5-CE1CB9B9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AA6F6-530A-4FD7-97FA-07E2AC5C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BD1A7-DF34-4B01-A163-5BFDC278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D2D61-3DF1-4925-AD31-96CB52CA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D40B9-0B1D-4D24-8BCC-0E2D0F2B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DC8F7-C05D-48A2-A981-40834087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FE29F-7B3C-4757-9F51-9F09E489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C377-2786-4A2B-9EF9-53F773B3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A2ADA-FD2A-47C1-9ABE-0887D934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61D27-738A-4C1A-9EE8-7E6F629D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CEC895-21A6-456F-9F9A-E3D39629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16467-D59A-4BEB-8DB8-1990E404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8C271-71E5-4C06-8764-39F98F28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A48670-1B72-4E5A-845C-21B0D940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972B86-CD7D-4FD8-8F9D-04BA9950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59E2CD-1370-4698-B594-309F0E60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578D28-B47B-47EB-9E38-681B9A89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58CBB2-85E3-4D32-882D-74636E0E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DA4E-151F-4D4E-9963-D3C22186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5BA693-1E4F-4B86-9420-FF842E15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404FE6-1FA4-4464-AEF6-4C121E6A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374053-A1B6-4F6C-AC5E-2ACC2A3C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670E88-E370-46C2-9EC4-A91F7E13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0458BC-CB44-409D-B1F7-56FFE9D5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C4EA32-BB71-4262-8B16-ADE92848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9B5AEE-7DCF-44BF-A101-482E70FF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E425DF-C7B6-45AF-93AC-4F7C4A8C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61F3FC-8E34-4D36-9071-25DEF8A2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EE1CC-EAD6-4A43-A90B-59B4E7D1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7285-AE93-4E6E-A159-A20AC80B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01120-C97B-4D86-BD9C-712E8818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F66BF-346F-4610-9E30-8BBAB0E7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2489D-4154-48A8-8C28-45700BB3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241C1-874D-45C0-B355-C44522F2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AC6A2-1846-4B42-992D-0DA59BFA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95995-BED0-4E22-A433-05132610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D922F-13AB-4E34-A25E-DD07B3E6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98EBF-DC17-40CC-A9A5-9D473D07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659A5-4E60-47EA-B609-60B7AC27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24249-649A-4BB5-90DD-B898D86A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7D0B-FEDE-4EA8-96D9-7E6D5536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B0387-C84C-4342-AE38-2CB8276D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24501-D496-457A-9205-8849F5F7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6E939-0641-415D-B179-C272103B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4C7AA-E2B9-4D6E-9BED-6DA97C5D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81282-56F4-494B-9E48-25EFA33A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A8EB8-4F2C-41EF-80F6-55627D60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9FE6B-64BC-46AF-A75C-C1C9C9F3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EDF67-4AF9-4153-8057-66B02F53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1DE0D-7E72-4140-8516-88089E96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1C0C8-DFA7-4A15-9D0A-E9C42A22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FAAB-C77F-46D5-802F-641B4DF5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E8D87-830A-4255-BEC2-B8541856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51396-A5DF-4EB2-8410-85F94304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DB032-030C-4F6F-965F-B971C893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371F1-77E9-46E7-B2C7-1A515C56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AF01C-351A-4F49-8C2D-137E04E5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CC85C-4026-46AA-9F41-0BA387E3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F75E6-A13D-4387-B03A-571631A0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A13DE-6221-43C5-9A6F-EAF9A1BE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070BB-1392-4359-B703-200A0C6C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EAFD6-A4FD-4863-8A8F-DDE8390F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A9A8-1CA0-4FA9-A0A2-100B7A78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511AA-7047-4E4F-9D06-F9D8380E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1E11D-550D-4DCE-976F-7F6A0C2F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25168-4E12-40DB-A97E-176791F5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EFF53-DF89-43A6-AB17-536FB666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8FF85-61A3-4B7B-B79D-9ED1A994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0E1B4-025E-40F4-993D-60983BE0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1A373-4B32-4D29-A68B-D05D8CC5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AC2B4-6165-4332-AE82-DAFF6855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E0787-4B8D-4BCE-8012-21FB2647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0E374-CA7B-42B2-BAE9-CA172930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E39-E31F-4DD1-BBD6-74685930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9F7C2-E694-4DBA-ADAE-9267B587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0679B-06A9-4610-986D-CF1D98FD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77507-83F6-4BA9-8F75-7D0DFD10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927BE-70CE-415D-889B-3CBADE49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D3C44-7399-442E-9C32-2CD1554B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17270-AC95-4B12-8EC4-1BF50412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7A1BE-0F33-4EB4-B5CF-6AF87B7E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4AE08-D1DB-41AB-B300-AE0F6D49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9A64D-7E97-4CA2-ACFE-050AFAE7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3B41E-8205-46F5-A8C3-40009E69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矩形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矩形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矩形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直接连接符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直接连接符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直接连接符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直接连接符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直接连接符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矩形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椭圆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椭圆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椭圆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椭圆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椭圆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直接连接符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3084-5CBD-49FD-8899-58779341E377}" type="slidenum">
              <a:rPr b="1" lang="zh-CN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单圆角矩形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任意多边形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任意多边形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9C78-C057-46E4-B439-12317D9DA258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A84B-A9EB-4DE1-BBDC-2713C2520169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3860-90E4-430D-9614-2F6FFACB94F7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单圆角矩形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任意多边形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任意多边形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A345-0EF3-45CB-A8EB-C131C56D7926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3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4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4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F73B-672B-48B4-9886-924F7A11772E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3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9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6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9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DECF-18BC-4320-998F-0B3A60E6ADD6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单圆角矩形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任意多边形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任意多边形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08E4-3931-4923-AC1F-DBEF9F7CDA7C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2A5F-8196-4C5F-B6C8-40EFAD4D8736}" type="slidenum">
              <a:rPr b="1" lang="zh-CN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直接连接符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直接连接符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直接连接符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直接连接符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矩形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直接连接符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椭圆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EDD1-22CB-473A-8018-D256C6806624}" type="slidenum">
              <a:rPr b="1" lang="zh-CN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直接连接符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椭圆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直接连接符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矩形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直接连接符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直接连接符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直接连接符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CE6B-D5A4-4013-9F52-B00DB148F694}" type="slidenum">
              <a:rPr b="1" lang="zh-CN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5CED-DBFB-4531-8758-5DAE07C88701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205C-93FD-47DF-8EC3-61460F0AA418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79CD-75A5-4928-BBFF-DA9E3AFE68D7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63C7-EC57-4976-A49B-FB845D6FC08A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6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E6DD-0C7E-41EC-8AD3-11183DBCBCAE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slide" Target="slide14.xml"/><Relationship Id="rId5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3.wmf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5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26.wmf"/><Relationship Id="rId2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标题 1" descr=""/>
          <p:cNvPicPr/>
          <p:nvPr/>
        </p:nvPicPr>
        <p:blipFill>
          <a:blip r:embed="rId2"/>
          <a:stretch/>
        </p:blipFill>
        <p:spPr>
          <a:xfrm>
            <a:off x="901800" y="2249640"/>
            <a:ext cx="73706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3"/>
          <p:cNvSpPr/>
          <p:nvPr/>
        </p:nvSpPr>
        <p:spPr>
          <a:xfrm>
            <a:off x="324000" y="260280"/>
            <a:ext cx="34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6fc6"/>
                </a:solidFill>
                <a:latin typeface="Century Schoolbook"/>
                <a:ea typeface="华文楷体"/>
              </a:rPr>
              <a:t>探一探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Text Box 3"/>
          <p:cNvSpPr/>
          <p:nvPr/>
        </p:nvSpPr>
        <p:spPr>
          <a:xfrm>
            <a:off x="1285920" y="142884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能直接写出它们的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9" name="Object 6"/>
          <p:cNvGraphicFramePr/>
          <p:nvPr/>
        </p:nvGraphicFramePr>
        <p:xfrm>
          <a:off x="349200" y="3440160"/>
          <a:ext cx="3911760" cy="58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0" y="3440160"/>
                    <a:ext cx="391176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1" name="Object 7"/>
          <p:cNvGraphicFramePr/>
          <p:nvPr/>
        </p:nvGraphicFramePr>
        <p:xfrm>
          <a:off x="4730760" y="3411360"/>
          <a:ext cx="3641760" cy="62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2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30760" y="3411360"/>
                    <a:ext cx="364176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3" name="Rectangle 8"/>
          <p:cNvSpPr/>
          <p:nvPr/>
        </p:nvSpPr>
        <p:spPr>
          <a:xfrm>
            <a:off x="7286760" y="3405240"/>
            <a:ext cx="12142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ectangle 9"/>
          <p:cNvSpPr/>
          <p:nvPr/>
        </p:nvSpPr>
        <p:spPr>
          <a:xfrm>
            <a:off x="3071880" y="3429000"/>
            <a:ext cx="128592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Object 10"/>
              <p:cNvSpPr txBox="1"/>
              <p:nvPr/>
            </p:nvSpPr>
            <p:spPr>
              <a:xfrm>
                <a:off x="900000" y="4653000"/>
                <a:ext cx="31687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为已知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6" name="Text Box 11"/>
          <p:cNvSpPr/>
          <p:nvPr/>
        </p:nvSpPr>
        <p:spPr>
          <a:xfrm>
            <a:off x="366840" y="4500720"/>
            <a:ext cx="7848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                             ”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方程的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Rectangle 12"/>
          <p:cNvSpPr/>
          <p:nvPr/>
        </p:nvSpPr>
        <p:spPr>
          <a:xfrm>
            <a:off x="903240" y="4643280"/>
            <a:ext cx="316872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8" name="Object 14"/>
              <p:cNvSpPr txBox="1"/>
              <p:nvPr/>
            </p:nvSpPr>
            <p:spPr>
              <a:xfrm>
                <a:off x="1341360" y="2435400"/>
                <a:ext cx="201636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9" name="Object 15"/>
              <p:cNvSpPr txBox="1"/>
              <p:nvPr/>
            </p:nvSpPr>
            <p:spPr>
              <a:xfrm>
                <a:off x="4859280" y="2421000"/>
                <a:ext cx="20163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2</m:t>
                    </m:r>
                    <m:r>
                      <m:t xml:space="preserve">）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Text Box 2"/>
          <p:cNvSpPr/>
          <p:nvPr/>
        </p:nvSpPr>
        <p:spPr>
          <a:xfrm>
            <a:off x="1768320" y="1500120"/>
            <a:ext cx="59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利用等式的性质解下列方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Text Box 3"/>
          <p:cNvSpPr/>
          <p:nvPr/>
        </p:nvSpPr>
        <p:spPr>
          <a:xfrm>
            <a:off x="758880" y="15001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Rectangle 3"/>
          <p:cNvSpPr/>
          <p:nvPr/>
        </p:nvSpPr>
        <p:spPr>
          <a:xfrm>
            <a:off x="324000" y="260280"/>
            <a:ext cx="34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6fc6"/>
                </a:solidFill>
                <a:latin typeface="Century Schoolbook"/>
                <a:ea typeface="华文楷体"/>
              </a:rPr>
              <a:t>试一试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3" name="Object 5"/>
              <p:cNvSpPr txBox="1"/>
              <p:nvPr/>
            </p:nvSpPr>
            <p:spPr>
              <a:xfrm>
                <a:off x="971640" y="2800440"/>
                <a:ext cx="28479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Object 6"/>
              <p:cNvSpPr txBox="1"/>
              <p:nvPr/>
            </p:nvSpPr>
            <p:spPr>
              <a:xfrm>
                <a:off x="4643280" y="2800440"/>
                <a:ext cx="31687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3"/>
          <p:cNvSpPr/>
          <p:nvPr/>
        </p:nvSpPr>
        <p:spPr>
          <a:xfrm>
            <a:off x="324000" y="260280"/>
            <a:ext cx="34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6fc6"/>
                </a:solidFill>
                <a:latin typeface="Century Schoolbook"/>
                <a:ea typeface="华文楷体"/>
              </a:rPr>
              <a:t>练一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 Box 3"/>
          <p:cNvSpPr/>
          <p:nvPr/>
        </p:nvSpPr>
        <p:spPr>
          <a:xfrm>
            <a:off x="357120" y="1428840"/>
            <a:ext cx="87868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利用等式的性质解下列方程，并写出检验过程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7" name="Object 5"/>
          <p:cNvGraphicFramePr/>
          <p:nvPr/>
        </p:nvGraphicFramePr>
        <p:xfrm>
          <a:off x="1357200" y="3071880"/>
          <a:ext cx="2551320" cy="51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57200" y="3071880"/>
                    <a:ext cx="25513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9" name="Group 8"/>
          <p:cNvGrpSpPr/>
          <p:nvPr/>
        </p:nvGrpSpPr>
        <p:grpSpPr>
          <a:xfrm>
            <a:off x="5000760" y="2786040"/>
            <a:ext cx="2447640" cy="1297080"/>
            <a:chOff x="5000760" y="2786040"/>
            <a:chExt cx="2447640" cy="1297080"/>
          </a:xfrm>
        </p:grpSpPr>
        <mc:AlternateContent>
          <mc:Choice xmlns:a14="http://schemas.microsoft.com/office/drawing/2010/main" Requires="a14">
            <p:sp>
              <p:nvSpPr>
                <p:cNvPr id="950" name="Object 6"/>
                <p:cNvSpPr txBox="1"/>
                <p:nvPr/>
              </p:nvSpPr>
              <p:spPr>
                <a:xfrm>
                  <a:off x="5289480" y="3002040"/>
                  <a:ext cx="1871280" cy="106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51" name="Rectangle 7"/>
            <p:cNvSpPr/>
            <p:nvPr/>
          </p:nvSpPr>
          <p:spPr>
            <a:xfrm>
              <a:off x="5000760" y="2786040"/>
              <a:ext cx="2447640" cy="129708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2" name="动作按钮: 结束 7">
            <a:hlinkClick r:id="rId4" action="ppaction://hlinksldjump"/>
          </p:cNvPr>
          <p:cNvSpPr/>
          <p:nvPr/>
        </p:nvSpPr>
        <p:spPr>
          <a:xfrm>
            <a:off x="7500960" y="571500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7383" y="10800"/>
                </a:moveTo>
                <a:lnTo>
                  <a:pt x="6878" y="17806"/>
                </a:lnTo>
                <a:lnTo>
                  <a:pt x="6878" y="3794"/>
                </a:lnTo>
                <a:close/>
              </a:path>
              <a:path fill="darken" w="27769" h="21600">
                <a:moveTo>
                  <a:pt x="19229" y="3794"/>
                </a:moveTo>
                <a:lnTo>
                  <a:pt x="19229" y="17806"/>
                </a:lnTo>
                <a:lnTo>
                  <a:pt x="20891" y="17806"/>
                </a:lnTo>
                <a:lnTo>
                  <a:pt x="20891" y="3794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3"/>
          <p:cNvSpPr/>
          <p:nvPr/>
        </p:nvSpPr>
        <p:spPr>
          <a:xfrm>
            <a:off x="324000" y="260280"/>
            <a:ext cx="34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6fc6"/>
                </a:solidFill>
                <a:latin typeface="Century Schoolbook"/>
                <a:ea typeface="华文楷体"/>
              </a:rPr>
              <a:t>思维拓展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4" name="组合 8"/>
          <p:cNvGrpSpPr/>
          <p:nvPr/>
        </p:nvGrpSpPr>
        <p:grpSpPr>
          <a:xfrm>
            <a:off x="857160" y="1523880"/>
            <a:ext cx="7215120" cy="2311560"/>
            <a:chOff x="857160" y="1523880"/>
            <a:chExt cx="7215120" cy="2311560"/>
          </a:xfrm>
        </p:grpSpPr>
        <p:sp>
          <p:nvSpPr>
            <p:cNvPr id="955" name="Text Box 3"/>
            <p:cNvSpPr/>
            <p:nvPr/>
          </p:nvSpPr>
          <p:spPr>
            <a:xfrm>
              <a:off x="857160" y="1523880"/>
              <a:ext cx="721512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已知关于  的方程           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用关于   的代数式表示   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当   取怎样整数时，方程的解为正整数？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并求出这个方程的正整数解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56" name="Object 2"/>
            <p:cNvGraphicFramePr/>
            <p:nvPr/>
          </p:nvGraphicFramePr>
          <p:xfrm>
            <a:off x="2285640" y="1666800"/>
            <a:ext cx="539280" cy="474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57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5640" y="1666800"/>
                      <a:ext cx="539280" cy="47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8" name="Object 3"/>
            <p:cNvGraphicFramePr/>
            <p:nvPr/>
          </p:nvGraphicFramePr>
          <p:xfrm>
            <a:off x="3929040" y="1595160"/>
            <a:ext cx="2500200" cy="53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59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929040" y="1595160"/>
                      <a:ext cx="2500200" cy="53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0" name="Object 4"/>
            <p:cNvGraphicFramePr/>
            <p:nvPr/>
          </p:nvGraphicFramePr>
          <p:xfrm>
            <a:off x="2143080" y="2288880"/>
            <a:ext cx="377640" cy="4176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61" name="Object 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143080" y="2288880"/>
                      <a:ext cx="37764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2" name="Object 5"/>
            <p:cNvGraphicFramePr/>
            <p:nvPr/>
          </p:nvGraphicFramePr>
          <p:xfrm>
            <a:off x="4786200" y="2217240"/>
            <a:ext cx="539640" cy="4748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63" name="Object 5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786200" y="2217240"/>
                      <a:ext cx="539640" cy="47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4" name="Object 6"/>
            <p:cNvGraphicFramePr/>
            <p:nvPr/>
          </p:nvGraphicFramePr>
          <p:xfrm>
            <a:off x="1357200" y="2789280"/>
            <a:ext cx="377640" cy="417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965" name="Object 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357200" y="2789280"/>
                      <a:ext cx="37764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3"/>
          <p:cNvSpPr/>
          <p:nvPr/>
        </p:nvSpPr>
        <p:spPr>
          <a:xfrm>
            <a:off x="324000" y="260280"/>
            <a:ext cx="34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f6fc6"/>
                </a:solidFill>
                <a:latin typeface="Century Schoolbook"/>
                <a:ea typeface="华文楷体"/>
              </a:rPr>
              <a:t>归一归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3"/>
          <p:cNvSpPr/>
          <p:nvPr/>
        </p:nvSpPr>
        <p:spPr>
          <a:xfrm>
            <a:off x="1500120" y="2149560"/>
            <a:ext cx="557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"/>
              </a:rPr>
              <a:t>本节课你学到了什么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WordArt 5"/>
          <p:cNvSpPr txBox="1"/>
          <p:nvPr/>
        </p:nvSpPr>
        <p:spPr>
          <a:xfrm>
            <a:off x="2916360" y="2276640"/>
            <a:ext cx="323028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2"/>
          <p:cNvSpPr/>
          <p:nvPr/>
        </p:nvSpPr>
        <p:spPr>
          <a:xfrm>
            <a:off x="1332000" y="4430880"/>
            <a:ext cx="66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方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是指含有未知数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等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1042920" y="3349800"/>
            <a:ext cx="41436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一元一次方程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428760" y="357120"/>
            <a:ext cx="34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6fc6"/>
                </a:solidFill>
                <a:latin typeface="Century Schoolbook"/>
                <a:ea typeface="华文楷体"/>
              </a:rPr>
              <a:t>蓦然回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9" name="Group 8"/>
          <p:cNvGrpSpPr/>
          <p:nvPr/>
        </p:nvGrpSpPr>
        <p:grpSpPr>
          <a:xfrm>
            <a:off x="1692360" y="1838160"/>
            <a:ext cx="2448000" cy="1297080"/>
            <a:chOff x="1692360" y="1838160"/>
            <a:chExt cx="2448000" cy="1297080"/>
          </a:xfrm>
        </p:grpSpPr>
        <mc:AlternateContent>
          <mc:Choice xmlns:a14="http://schemas.microsoft.com/office/drawing/2010/main" Requires="a14">
            <p:sp>
              <p:nvSpPr>
                <p:cNvPr id="790" name="Object 2"/>
                <p:cNvSpPr txBox="1"/>
                <p:nvPr/>
              </p:nvSpPr>
              <p:spPr>
                <a:xfrm>
                  <a:off x="1981440" y="2011320"/>
                  <a:ext cx="1871640" cy="106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91" name="Rectangle 7"/>
            <p:cNvSpPr/>
            <p:nvPr/>
          </p:nvSpPr>
          <p:spPr>
            <a:xfrm>
              <a:off x="1692360" y="1838160"/>
              <a:ext cx="2448000" cy="129708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2" name="Group 8"/>
          <p:cNvGrpSpPr/>
          <p:nvPr/>
        </p:nvGrpSpPr>
        <p:grpSpPr>
          <a:xfrm>
            <a:off x="5003640" y="1844640"/>
            <a:ext cx="2808000" cy="1297080"/>
            <a:chOff x="5003640" y="1844640"/>
            <a:chExt cx="2808000" cy="1297080"/>
          </a:xfrm>
        </p:grpSpPr>
        <mc:AlternateContent>
          <mc:Choice xmlns:a14="http://schemas.microsoft.com/office/drawing/2010/main" Requires="a14">
            <p:sp>
              <p:nvSpPr>
                <p:cNvPr id="793" name="Object 6"/>
                <p:cNvSpPr txBox="1"/>
                <p:nvPr/>
              </p:nvSpPr>
              <p:spPr>
                <a:xfrm>
                  <a:off x="5180040" y="2017800"/>
                  <a:ext cx="2458440" cy="106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94" name="Rectangle 7"/>
            <p:cNvSpPr/>
            <p:nvPr/>
          </p:nvSpPr>
          <p:spPr>
            <a:xfrm>
              <a:off x="5003640" y="1844640"/>
              <a:ext cx="2808000" cy="129708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图片 3" descr="aaaa.jpg"/>
          <p:cNvPicPr/>
          <p:nvPr/>
        </p:nvPicPr>
        <p:blipFill>
          <a:blip r:embed="rId2"/>
          <a:stretch/>
        </p:blipFill>
        <p:spPr>
          <a:xfrm>
            <a:off x="1000080" y="1857240"/>
            <a:ext cx="7150320" cy="2928960"/>
          </a:xfrm>
          <a:prstGeom prst="rect">
            <a:avLst/>
          </a:prstGeom>
          <a:ln w="0">
            <a:noFill/>
          </a:ln>
        </p:spPr>
      </p:pic>
      <p:sp>
        <p:nvSpPr>
          <p:cNvPr id="796" name="TextBox 4"/>
          <p:cNvSpPr/>
          <p:nvPr/>
        </p:nvSpPr>
        <p:spPr>
          <a:xfrm>
            <a:off x="1428840" y="5149800"/>
            <a:ext cx="664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Calibri"/>
                <a:ea typeface="隶书"/>
              </a:rPr>
              <a:t>用科学实验，探索数学真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Box 5"/>
          <p:cNvSpPr/>
          <p:nvPr/>
        </p:nvSpPr>
        <p:spPr>
          <a:xfrm>
            <a:off x="2357280" y="85716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Calibri"/>
                <a:ea typeface="隶书"/>
              </a:rPr>
              <a:t>科学实验站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143000" y="12952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由等式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x+3x=5x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，进行判断：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084920" y="21178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2590920" y="2117880"/>
            <a:ext cx="4419000" cy="703440"/>
            <a:chOff x="2590920" y="2117880"/>
            <a:chExt cx="4419000" cy="703440"/>
          </a:xfrm>
        </p:grpSpPr>
        <p:sp>
          <p:nvSpPr>
            <p:cNvPr id="801" name=""/>
            <p:cNvSpPr/>
            <p:nvPr/>
          </p:nvSpPr>
          <p:spPr>
            <a:xfrm>
              <a:off x="2590920" y="2117880"/>
              <a:ext cx="1767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+ (4x)</a:t>
              </a: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242320" y="2117880"/>
              <a:ext cx="1767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+ (4x)</a:t>
              </a: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3886200" y="2133720"/>
            <a:ext cx="914400" cy="76176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219320" y="213372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x+3x           </a:t>
            </a:r>
            <a:r>
              <a:rPr b="1" lang="zh-CN" sz="4000" spc="-1" strike="noStrike">
                <a:solidFill>
                  <a:srgbClr val="04617b"/>
                </a:solidFill>
                <a:latin typeface="Times New Roman"/>
              </a:rPr>
              <a:t>＝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x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040280" y="31240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514600" y="3048120"/>
            <a:ext cx="4038120" cy="703440"/>
            <a:chOff x="2514600" y="3048120"/>
            <a:chExt cx="4038120" cy="703440"/>
          </a:xfrm>
        </p:grpSpPr>
        <p:sp>
          <p:nvSpPr>
            <p:cNvPr id="807" name=""/>
            <p:cNvSpPr/>
            <p:nvPr/>
          </p:nvSpPr>
          <p:spPr>
            <a:xfrm>
              <a:off x="2514600" y="3048120"/>
              <a:ext cx="161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- (x)</a:t>
              </a: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937400" y="3048120"/>
              <a:ext cx="161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- (x)</a:t>
              </a: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3809880" y="3124080"/>
            <a:ext cx="914400" cy="76212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219320" y="304812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x+3x           </a:t>
            </a:r>
            <a:r>
              <a:rPr b="1" lang="zh-CN" sz="4000" spc="-1" strike="noStrike">
                <a:solidFill>
                  <a:srgbClr val="04617b"/>
                </a:solidFill>
                <a:latin typeface="Times New Roman"/>
              </a:rPr>
              <a:t>＝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x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676520" y="3984480"/>
            <a:ext cx="64008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上述两个问题反映出等式具有什么性质？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2"/>
          <a:stretch/>
        </p:blipFill>
        <p:spPr>
          <a:xfrm>
            <a:off x="76320" y="3755880"/>
            <a:ext cx="133956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4116600" y="3505320"/>
            <a:ext cx="63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Times New Roman"/>
              </a:rPr>
              <a:t>?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038480" y="3505320"/>
            <a:ext cx="914400" cy="76176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040280" y="2286000"/>
            <a:ext cx="63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Times New Roman"/>
              </a:rPr>
              <a:t>?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809880" y="2362320"/>
            <a:ext cx="914400" cy="76176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90720" y="9907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由等式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m+5m=8m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，进行判断：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1403280" y="1773360"/>
            <a:ext cx="3997080" cy="1768680"/>
            <a:chOff x="1403280" y="1773360"/>
            <a:chExt cx="3997080" cy="1768680"/>
          </a:xfrm>
        </p:grpSpPr>
        <p:sp>
          <p:nvSpPr>
            <p:cNvPr id="819" name=""/>
            <p:cNvSpPr/>
            <p:nvPr/>
          </p:nvSpPr>
          <p:spPr>
            <a:xfrm>
              <a:off x="1403280" y="2350800"/>
              <a:ext cx="2514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2×(             )      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485960" y="177336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2×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1371600" y="3505320"/>
            <a:ext cx="4952880" cy="718560"/>
            <a:chOff x="1371600" y="3505320"/>
            <a:chExt cx="4952880" cy="718560"/>
          </a:xfrm>
        </p:grpSpPr>
        <p:sp>
          <p:nvSpPr>
            <p:cNvPr id="822" name=""/>
            <p:cNvSpPr/>
            <p:nvPr/>
          </p:nvSpPr>
          <p:spPr>
            <a:xfrm>
              <a:off x="1371600" y="3505320"/>
              <a:ext cx="281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(              )÷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181480" y="35812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÷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2209680" y="4876920"/>
            <a:ext cx="64008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上述两个问题反映出等式具有什么性质？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609480" y="4648320"/>
            <a:ext cx="1339920" cy="180648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2286000" y="2362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m+5m  </a:t>
            </a:r>
            <a:r>
              <a:rPr b="1" lang="zh-CN" sz="3600" spc="-1" strike="noStrike">
                <a:solidFill>
                  <a:srgbClr val="04617b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676520" y="35496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m+5m        </a:t>
            </a:r>
            <a:r>
              <a:rPr b="1" lang="zh-CN" sz="3600" spc="-1" strike="noStrike">
                <a:solidFill>
                  <a:srgbClr val="04617b"/>
                </a:solidFill>
                <a:latin typeface="Times New Roman"/>
              </a:rPr>
              <a:t>＝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图片 22" descr="115052983.jpg"/>
          <p:cNvPicPr/>
          <p:nvPr/>
        </p:nvPicPr>
        <p:blipFill>
          <a:blip r:embed="rId2"/>
          <a:stretch/>
        </p:blipFill>
        <p:spPr>
          <a:xfrm>
            <a:off x="7500960" y="0"/>
            <a:ext cx="1643040" cy="1374840"/>
          </a:xfrm>
          <a:prstGeom prst="rect">
            <a:avLst/>
          </a:prstGeom>
          <a:ln w="0">
            <a:noFill/>
          </a:ln>
        </p:spPr>
      </p:pic>
      <p:sp>
        <p:nvSpPr>
          <p:cNvPr id="829" name="Text Box 4"/>
          <p:cNvSpPr/>
          <p:nvPr/>
        </p:nvSpPr>
        <p:spPr>
          <a:xfrm>
            <a:off x="395280" y="1628640"/>
            <a:ext cx="8497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等式的两边同时加上（或减去）同一个数或式，所得结果仍是等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Text Box 5"/>
          <p:cNvSpPr/>
          <p:nvPr/>
        </p:nvSpPr>
        <p:spPr>
          <a:xfrm>
            <a:off x="539640" y="119700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式的基本性质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Group 6"/>
          <p:cNvGrpSpPr/>
          <p:nvPr/>
        </p:nvGrpSpPr>
        <p:grpSpPr>
          <a:xfrm>
            <a:off x="684360" y="2997360"/>
            <a:ext cx="5565240" cy="647640"/>
            <a:chOff x="684360" y="2997360"/>
            <a:chExt cx="5565240" cy="647640"/>
          </a:xfrm>
        </p:grpSpPr>
        <p:graphicFrame>
          <p:nvGraphicFramePr>
            <p:cNvPr id="832" name="Object 1"/>
            <p:cNvGraphicFramePr/>
            <p:nvPr/>
          </p:nvGraphicFramePr>
          <p:xfrm>
            <a:off x="1547640" y="2997360"/>
            <a:ext cx="1223640" cy="612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33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47640" y="2997360"/>
                      <a:ext cx="1223640" cy="61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4" name="Text Box 8"/>
            <p:cNvSpPr/>
            <p:nvPr/>
          </p:nvSpPr>
          <p:spPr>
            <a:xfrm>
              <a:off x="2700000" y="3069000"/>
              <a:ext cx="108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那么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35" name="Object 2"/>
            <p:cNvGraphicFramePr/>
            <p:nvPr/>
          </p:nvGraphicFramePr>
          <p:xfrm>
            <a:off x="3492360" y="3002040"/>
            <a:ext cx="2757240" cy="642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36" name="Object 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3002040"/>
                      <a:ext cx="2757240" cy="6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7" name="Text Box 10"/>
            <p:cNvSpPr/>
            <p:nvPr/>
          </p:nvSpPr>
          <p:spPr>
            <a:xfrm>
              <a:off x="684360" y="3069000"/>
              <a:ext cx="108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如果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8" name="Text Box 14"/>
          <p:cNvSpPr/>
          <p:nvPr/>
        </p:nvSpPr>
        <p:spPr>
          <a:xfrm>
            <a:off x="611280" y="371304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式的基本性质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Text Box 15"/>
          <p:cNvSpPr/>
          <p:nvPr/>
        </p:nvSpPr>
        <p:spPr>
          <a:xfrm>
            <a:off x="468360" y="4359240"/>
            <a:ext cx="828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等式的两边同时乘或除以同一个数或式（除数不为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），所得结果仍是等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Group 16"/>
          <p:cNvGrpSpPr/>
          <p:nvPr/>
        </p:nvGrpSpPr>
        <p:grpSpPr>
          <a:xfrm>
            <a:off x="395280" y="5445000"/>
            <a:ext cx="7634160" cy="1238040"/>
            <a:chOff x="395280" y="5445000"/>
            <a:chExt cx="7634160" cy="1238040"/>
          </a:xfrm>
        </p:grpSpPr>
        <p:graphicFrame>
          <p:nvGraphicFramePr>
            <p:cNvPr id="841" name="Object 3"/>
            <p:cNvGraphicFramePr/>
            <p:nvPr/>
          </p:nvGraphicFramePr>
          <p:xfrm>
            <a:off x="1258920" y="5733720"/>
            <a:ext cx="1224000" cy="61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42" name="Object 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58920" y="5733720"/>
                      <a:ext cx="1224000" cy="61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3" name="Text Box 18"/>
            <p:cNvSpPr/>
            <p:nvPr/>
          </p:nvSpPr>
          <p:spPr>
            <a:xfrm>
              <a:off x="2411280" y="580536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那么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44" name="Object 4"/>
            <p:cNvGraphicFramePr/>
            <p:nvPr/>
          </p:nvGraphicFramePr>
          <p:xfrm>
            <a:off x="3203640" y="5733720"/>
            <a:ext cx="1793880" cy="642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45" name="Object 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203640" y="5733720"/>
                      <a:ext cx="1793880" cy="6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6" name="Text Box 20"/>
            <p:cNvSpPr/>
            <p:nvPr/>
          </p:nvSpPr>
          <p:spPr>
            <a:xfrm>
              <a:off x="395280" y="580536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如果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Text Box 21"/>
            <p:cNvSpPr/>
            <p:nvPr/>
          </p:nvSpPr>
          <p:spPr>
            <a:xfrm>
              <a:off x="4932360" y="580536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或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48" name="Object 5"/>
            <p:cNvGraphicFramePr/>
            <p:nvPr/>
          </p:nvGraphicFramePr>
          <p:xfrm>
            <a:off x="5437080" y="5445000"/>
            <a:ext cx="2592360" cy="1238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49" name="Object 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37080" y="5445000"/>
                      <a:ext cx="2592360" cy="12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50" name="Group 27"/>
          <p:cNvGrpSpPr/>
          <p:nvPr/>
        </p:nvGrpSpPr>
        <p:grpSpPr>
          <a:xfrm>
            <a:off x="2627280" y="0"/>
            <a:ext cx="3800520" cy="1123920"/>
            <a:chOff x="2627280" y="0"/>
            <a:chExt cx="3800520" cy="1123920"/>
          </a:xfrm>
        </p:grpSpPr>
        <p:pic>
          <p:nvPicPr>
            <p:cNvPr id="851" name="Picture 28" descr=""/>
            <p:cNvPicPr/>
            <p:nvPr/>
          </p:nvPicPr>
          <p:blipFill>
            <a:blip r:embed="rId13"/>
            <a:stretch/>
          </p:blipFill>
          <p:spPr>
            <a:xfrm>
              <a:off x="2627280" y="0"/>
              <a:ext cx="380052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Text Box 29"/>
            <p:cNvSpPr/>
            <p:nvPr/>
          </p:nvSpPr>
          <p:spPr>
            <a:xfrm>
              <a:off x="3251160" y="82440"/>
              <a:ext cx="2951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Arial"/>
                  <a:ea typeface="华文隶书"/>
                </a:rPr>
                <a:t>实验站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 Box 2"/>
          <p:cNvSpPr/>
          <p:nvPr/>
        </p:nvSpPr>
        <p:spPr>
          <a:xfrm>
            <a:off x="142920" y="5000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根据下列各题的条件，写出仍然成立的等式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4" name="Group 7"/>
          <p:cNvGrpSpPr/>
          <p:nvPr/>
        </p:nvGrpSpPr>
        <p:grpSpPr>
          <a:xfrm>
            <a:off x="4481640" y="1700280"/>
            <a:ext cx="2447640" cy="576360"/>
            <a:chOff x="4481640" y="1700280"/>
            <a:chExt cx="2447640" cy="576360"/>
          </a:xfrm>
        </p:grpSpPr>
        <mc:AlternateContent>
          <mc:Choice xmlns:a14="http://schemas.microsoft.com/office/drawing/2010/main" Requires="a14">
            <p:sp>
              <p:nvSpPr>
                <p:cNvPr id="855" name="Object 8"/>
                <p:cNvSpPr txBox="1"/>
                <p:nvPr/>
              </p:nvSpPr>
              <p:spPr>
                <a:xfrm>
                  <a:off x="4552560" y="1744560"/>
                  <a:ext cx="2232000" cy="4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56" name="Rectangle 9"/>
            <p:cNvSpPr/>
            <p:nvPr/>
          </p:nvSpPr>
          <p:spPr>
            <a:xfrm>
              <a:off x="4481640" y="1700280"/>
              <a:ext cx="2447640" cy="57636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7" name="Group 10"/>
          <p:cNvGrpSpPr/>
          <p:nvPr/>
        </p:nvGrpSpPr>
        <p:grpSpPr>
          <a:xfrm>
            <a:off x="3500280" y="2928960"/>
            <a:ext cx="3456000" cy="571320"/>
            <a:chOff x="3500280" y="2928960"/>
            <a:chExt cx="3456000" cy="571320"/>
          </a:xfrm>
        </p:grpSpPr>
        <p:graphicFrame>
          <p:nvGraphicFramePr>
            <p:cNvPr id="858" name="Object 11"/>
            <p:cNvGraphicFramePr/>
            <p:nvPr/>
          </p:nvGraphicFramePr>
          <p:xfrm>
            <a:off x="3578040" y="2987640"/>
            <a:ext cx="3378240" cy="43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9" name="Object 1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78040" y="2987640"/>
                      <a:ext cx="337824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0" name="Rectangle 12"/>
            <p:cNvSpPr/>
            <p:nvPr/>
          </p:nvSpPr>
          <p:spPr>
            <a:xfrm>
              <a:off x="3500280" y="2928960"/>
              <a:ext cx="3429000" cy="57132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1" name="Group 13"/>
          <p:cNvGrpSpPr/>
          <p:nvPr/>
        </p:nvGrpSpPr>
        <p:grpSpPr>
          <a:xfrm>
            <a:off x="4786200" y="4143240"/>
            <a:ext cx="1785960" cy="928800"/>
            <a:chOff x="4786200" y="4143240"/>
            <a:chExt cx="1785960" cy="928800"/>
          </a:xfrm>
        </p:grpSpPr>
        <p:graphicFrame>
          <p:nvGraphicFramePr>
            <p:cNvPr id="862" name="Object 14"/>
            <p:cNvGraphicFramePr/>
            <p:nvPr/>
          </p:nvGraphicFramePr>
          <p:xfrm>
            <a:off x="4930920" y="4143240"/>
            <a:ext cx="1582560" cy="892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63" name="Object 14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930920" y="4143240"/>
                      <a:ext cx="1582560" cy="89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4" name="Rectangle 15"/>
            <p:cNvSpPr/>
            <p:nvPr/>
          </p:nvSpPr>
          <p:spPr>
            <a:xfrm>
              <a:off x="4786200" y="4143240"/>
              <a:ext cx="1785960" cy="9288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5" name="组合 23"/>
          <p:cNvGrpSpPr/>
          <p:nvPr/>
        </p:nvGrpSpPr>
        <p:grpSpPr>
          <a:xfrm>
            <a:off x="285840" y="3286080"/>
            <a:ext cx="4643280" cy="1143000"/>
            <a:chOff x="285840" y="3286080"/>
            <a:chExt cx="4643280" cy="1143000"/>
          </a:xfrm>
        </p:grpSpPr>
        <p:graphicFrame>
          <p:nvGraphicFramePr>
            <p:cNvPr id="866" name="Object 15"/>
            <p:cNvGraphicFramePr/>
            <p:nvPr/>
          </p:nvGraphicFramePr>
          <p:xfrm>
            <a:off x="285840" y="3286080"/>
            <a:ext cx="1731960" cy="1143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67" name="Object 15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85840" y="3286080"/>
                      <a:ext cx="173196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8" name="TextBox 17"/>
            <p:cNvSpPr/>
            <p:nvPr/>
          </p:nvSpPr>
          <p:spPr>
            <a:xfrm>
              <a:off x="1928880" y="3643200"/>
              <a:ext cx="300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，两边都乘以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9" name="组合 21"/>
          <p:cNvGrpSpPr/>
          <p:nvPr/>
        </p:nvGrpSpPr>
        <p:grpSpPr>
          <a:xfrm>
            <a:off x="285840" y="1125360"/>
            <a:ext cx="4929120" cy="648000"/>
            <a:chOff x="285840" y="1125360"/>
            <a:chExt cx="4929120" cy="648000"/>
          </a:xfrm>
        </p:grpSpPr>
        <p:graphicFrame>
          <p:nvGraphicFramePr>
            <p:cNvPr id="870" name="Object 4"/>
            <p:cNvGraphicFramePr/>
            <p:nvPr/>
          </p:nvGraphicFramePr>
          <p:xfrm>
            <a:off x="285840" y="1125360"/>
            <a:ext cx="1903320" cy="648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71" name="Object 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85840" y="1125360"/>
                      <a:ext cx="1903320" cy="6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2" name="TextBox 19"/>
            <p:cNvSpPr/>
            <p:nvPr/>
          </p:nvSpPr>
          <p:spPr>
            <a:xfrm>
              <a:off x="2214720" y="1196640"/>
              <a:ext cx="300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，两边都加上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73" name="Object 16"/>
            <p:cNvGraphicFramePr/>
            <p:nvPr/>
          </p:nvGraphicFramePr>
          <p:xfrm>
            <a:off x="4429440" y="1196640"/>
            <a:ext cx="465840" cy="5004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74" name="Object 1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429440" y="1196640"/>
                      <a:ext cx="465840" cy="5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75" name="Group 7"/>
          <p:cNvGrpSpPr/>
          <p:nvPr/>
        </p:nvGrpSpPr>
        <p:grpSpPr>
          <a:xfrm>
            <a:off x="7238880" y="1700280"/>
            <a:ext cx="1476360" cy="576360"/>
            <a:chOff x="7238880" y="1700280"/>
            <a:chExt cx="1476360" cy="576360"/>
          </a:xfrm>
        </p:grpSpPr>
        <mc:AlternateContent>
          <mc:Choice xmlns:a14="http://schemas.microsoft.com/office/drawing/2010/main" Requires="a14">
            <p:sp>
              <p:nvSpPr>
                <p:cNvPr id="876" name="Object 8"/>
                <p:cNvSpPr txBox="1"/>
                <p:nvPr/>
              </p:nvSpPr>
              <p:spPr>
                <a:xfrm>
                  <a:off x="7376400" y="1744560"/>
                  <a:ext cx="1164240" cy="4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77" name="Rectangle 9"/>
            <p:cNvSpPr/>
            <p:nvPr/>
          </p:nvSpPr>
          <p:spPr>
            <a:xfrm>
              <a:off x="7238880" y="1700280"/>
              <a:ext cx="1476360" cy="57636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8" name="组合 25"/>
          <p:cNvGrpSpPr/>
          <p:nvPr/>
        </p:nvGrpSpPr>
        <p:grpSpPr>
          <a:xfrm>
            <a:off x="228600" y="2286000"/>
            <a:ext cx="5343480" cy="582480"/>
            <a:chOff x="228600" y="2286000"/>
            <a:chExt cx="5343480" cy="582480"/>
          </a:xfrm>
        </p:grpSpPr>
        <p:grpSp>
          <p:nvGrpSpPr>
            <p:cNvPr id="879" name="组合 22"/>
            <p:cNvGrpSpPr/>
            <p:nvPr/>
          </p:nvGrpSpPr>
          <p:grpSpPr>
            <a:xfrm>
              <a:off x="228600" y="2286000"/>
              <a:ext cx="5343480" cy="582480"/>
              <a:chOff x="228600" y="2286000"/>
              <a:chExt cx="5343480" cy="582480"/>
            </a:xfrm>
          </p:grpSpPr>
          <p:graphicFrame>
            <p:nvGraphicFramePr>
              <p:cNvPr id="880" name="Object 5"/>
              <p:cNvGraphicFramePr/>
              <p:nvPr/>
            </p:nvGraphicFramePr>
            <p:xfrm>
              <a:off x="228600" y="2286000"/>
              <a:ext cx="2400120" cy="58248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881" name="Object 5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228600" y="2286000"/>
                        <a:ext cx="2400120" cy="582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2" name="TextBox 18"/>
              <p:cNvSpPr/>
              <p:nvPr/>
            </p:nvSpPr>
            <p:spPr>
              <a:xfrm>
                <a:off x="2571840" y="2286000"/>
                <a:ext cx="3000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Arial"/>
                  </a:rPr>
                  <a:t>，两边都减去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883" name="Object 30"/>
            <p:cNvGraphicFramePr/>
            <p:nvPr/>
          </p:nvGraphicFramePr>
          <p:xfrm>
            <a:off x="4846680" y="2286000"/>
            <a:ext cx="582480" cy="5097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884" name="Object 30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846680" y="2286000"/>
                      <a:ext cx="582480" cy="5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85" name="Group 10"/>
          <p:cNvGrpSpPr/>
          <p:nvPr/>
        </p:nvGrpSpPr>
        <p:grpSpPr>
          <a:xfrm>
            <a:off x="7254720" y="2928960"/>
            <a:ext cx="1071720" cy="571320"/>
            <a:chOff x="7254720" y="2928960"/>
            <a:chExt cx="1071720" cy="571320"/>
          </a:xfrm>
        </p:grpSpPr>
        <p:graphicFrame>
          <p:nvGraphicFramePr>
            <p:cNvPr id="886" name="Object 31"/>
            <p:cNvGraphicFramePr/>
            <p:nvPr/>
          </p:nvGraphicFramePr>
          <p:xfrm>
            <a:off x="7372080" y="2987640"/>
            <a:ext cx="870120" cy="4316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887" name="Object 31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372080" y="2987640"/>
                      <a:ext cx="87012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8" name="Rectangle 12"/>
            <p:cNvSpPr/>
            <p:nvPr/>
          </p:nvSpPr>
          <p:spPr>
            <a:xfrm>
              <a:off x="7254720" y="2928960"/>
              <a:ext cx="1071720" cy="57132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9" name="Group 13"/>
          <p:cNvGrpSpPr/>
          <p:nvPr/>
        </p:nvGrpSpPr>
        <p:grpSpPr>
          <a:xfrm>
            <a:off x="6929280" y="4286160"/>
            <a:ext cx="1285920" cy="500040"/>
            <a:chOff x="6929280" y="4286160"/>
            <a:chExt cx="1285920" cy="500040"/>
          </a:xfrm>
        </p:grpSpPr>
        <p:graphicFrame>
          <p:nvGraphicFramePr>
            <p:cNvPr id="890" name="Object 32"/>
            <p:cNvGraphicFramePr/>
            <p:nvPr/>
          </p:nvGraphicFramePr>
          <p:xfrm>
            <a:off x="7003800" y="4316400"/>
            <a:ext cx="1150920" cy="40320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891" name="Object 32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7003800" y="4316400"/>
                      <a:ext cx="1150920" cy="40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2" name="Rectangle 15"/>
            <p:cNvSpPr/>
            <p:nvPr/>
          </p:nvSpPr>
          <p:spPr>
            <a:xfrm>
              <a:off x="6929280" y="4286160"/>
              <a:ext cx="1285920" cy="50004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3" name="组合 23"/>
          <p:cNvGrpSpPr/>
          <p:nvPr/>
        </p:nvGrpSpPr>
        <p:grpSpPr>
          <a:xfrm>
            <a:off x="214200" y="4857840"/>
            <a:ext cx="5275440" cy="1143000"/>
            <a:chOff x="214200" y="4857840"/>
            <a:chExt cx="5275440" cy="1143000"/>
          </a:xfrm>
        </p:grpSpPr>
        <p:graphicFrame>
          <p:nvGraphicFramePr>
            <p:cNvPr id="894" name="Object 33"/>
            <p:cNvGraphicFramePr/>
            <p:nvPr/>
          </p:nvGraphicFramePr>
          <p:xfrm>
            <a:off x="214200" y="4857840"/>
            <a:ext cx="2284560" cy="11430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895" name="Object 33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214200" y="4857840"/>
                      <a:ext cx="228456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6" name="TextBox 17"/>
            <p:cNvSpPr/>
            <p:nvPr/>
          </p:nvSpPr>
          <p:spPr>
            <a:xfrm>
              <a:off x="2489040" y="5214960"/>
              <a:ext cx="300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，两边都乘以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7" name="Group 13"/>
          <p:cNvGrpSpPr/>
          <p:nvPr/>
        </p:nvGrpSpPr>
        <p:grpSpPr>
          <a:xfrm>
            <a:off x="4143240" y="5786280"/>
            <a:ext cx="2428920" cy="928800"/>
            <a:chOff x="4143240" y="5786280"/>
            <a:chExt cx="2428920" cy="928800"/>
          </a:xfrm>
        </p:grpSpPr>
        <p:graphicFrame>
          <p:nvGraphicFramePr>
            <p:cNvPr id="898" name="Object 34"/>
            <p:cNvGraphicFramePr/>
            <p:nvPr/>
          </p:nvGraphicFramePr>
          <p:xfrm>
            <a:off x="4242960" y="5786280"/>
            <a:ext cx="2244960" cy="89208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899" name="Object 34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4242960" y="5786280"/>
                      <a:ext cx="2244960" cy="89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0" name="Rectangle 15"/>
            <p:cNvSpPr/>
            <p:nvPr/>
          </p:nvSpPr>
          <p:spPr>
            <a:xfrm>
              <a:off x="4143240" y="5786280"/>
              <a:ext cx="2428920" cy="9288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1" name="Group 13"/>
          <p:cNvGrpSpPr/>
          <p:nvPr/>
        </p:nvGrpSpPr>
        <p:grpSpPr>
          <a:xfrm>
            <a:off x="6929280" y="6000840"/>
            <a:ext cx="1714320" cy="500040"/>
            <a:chOff x="6929280" y="6000840"/>
            <a:chExt cx="1714320" cy="500040"/>
          </a:xfrm>
        </p:grpSpPr>
        <p:graphicFrame>
          <p:nvGraphicFramePr>
            <p:cNvPr id="902" name="Object 35"/>
            <p:cNvGraphicFramePr/>
            <p:nvPr/>
          </p:nvGraphicFramePr>
          <p:xfrm>
            <a:off x="6987960" y="6031080"/>
            <a:ext cx="1611360" cy="40320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903" name="Object 35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6987960" y="6031080"/>
                      <a:ext cx="1611360" cy="40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4" name="Rectangle 15"/>
            <p:cNvSpPr/>
            <p:nvPr/>
          </p:nvSpPr>
          <p:spPr>
            <a:xfrm>
              <a:off x="6929280" y="6000840"/>
              <a:ext cx="1714320" cy="50004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5" name="Group 13"/>
          <p:cNvGrpSpPr/>
          <p:nvPr/>
        </p:nvGrpSpPr>
        <p:grpSpPr>
          <a:xfrm>
            <a:off x="755640" y="1413000"/>
            <a:ext cx="7602480" cy="687600"/>
            <a:chOff x="755640" y="1413000"/>
            <a:chExt cx="7602480" cy="687600"/>
          </a:xfrm>
        </p:grpSpPr>
        <mc:AlternateContent>
          <mc:Choice xmlns:a14="http://schemas.microsoft.com/office/drawing/2010/main" Requires="a14">
            <p:sp>
              <p:nvSpPr>
                <p:cNvPr id="906" name="Object 3"/>
                <p:cNvSpPr txBox="1"/>
                <p:nvPr/>
              </p:nvSpPr>
              <p:spPr>
                <a:xfrm>
                  <a:off x="1618920" y="1557360"/>
                  <a:ext cx="1370160" cy="5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7" name="Text Box 4"/>
            <p:cNvSpPr/>
            <p:nvPr/>
          </p:nvSpPr>
          <p:spPr>
            <a:xfrm>
              <a:off x="755640" y="1413000"/>
              <a:ext cx="7602480" cy="6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ff"/>
                  </a:solidFill>
                  <a:latin typeface="宋体"/>
                </a:rPr>
                <a:t>已知        ，下列等式成立吗</a:t>
              </a:r>
              <a:r>
                <a:rPr b="1" lang="en-US" sz="3000" spc="-1" strike="noStrike">
                  <a:solidFill>
                    <a:srgbClr val="ffffff"/>
                  </a:solidFill>
                  <a:latin typeface="宋体"/>
                </a:rPr>
                <a:t>?</a:t>
              </a:r>
              <a:r>
                <a:rPr b="1" lang="zh-CN" sz="3000" spc="-1" strike="noStrike">
                  <a:solidFill>
                    <a:srgbClr val="ffffff"/>
                  </a:solidFill>
                  <a:latin typeface="宋体"/>
                </a:rPr>
                <a:t>根据什么</a:t>
              </a:r>
              <a:r>
                <a:rPr b="1" lang="en-US" sz="3000" spc="-1" strike="noStrike">
                  <a:solidFill>
                    <a:srgbClr val="ffffff"/>
                  </a:solidFill>
                  <a:latin typeface="宋体"/>
                </a:rPr>
                <a:t>?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908" name="Object 9"/>
          <p:cNvGraphicFramePr/>
          <p:nvPr/>
        </p:nvGraphicFramePr>
        <p:xfrm>
          <a:off x="1054080" y="2708280"/>
          <a:ext cx="2413080" cy="71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54080" y="2708280"/>
                    <a:ext cx="24130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4"/>
          <p:cNvGraphicFramePr/>
          <p:nvPr/>
        </p:nvGraphicFramePr>
        <p:xfrm>
          <a:off x="4340160" y="2779560"/>
          <a:ext cx="3616560" cy="642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1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0160" y="2779560"/>
                    <a:ext cx="36165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13"/>
          <p:cNvGraphicFramePr/>
          <p:nvPr/>
        </p:nvGraphicFramePr>
        <p:xfrm>
          <a:off x="982800" y="3780000"/>
          <a:ext cx="2716200" cy="13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13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82800" y="3780000"/>
                    <a:ext cx="271620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14"/>
          <p:cNvGraphicFramePr/>
          <p:nvPr/>
        </p:nvGraphicFramePr>
        <p:xfrm>
          <a:off x="4268880" y="4137120"/>
          <a:ext cx="2501640" cy="714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15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68880" y="4137120"/>
                    <a:ext cx="2501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6" name="TextBox 11"/>
          <p:cNvSpPr/>
          <p:nvPr/>
        </p:nvSpPr>
        <p:spPr>
          <a:xfrm>
            <a:off x="4643280" y="5505480"/>
            <a:ext cx="39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Calibri"/>
                <a:ea typeface="隶书"/>
              </a:rPr>
              <a:t>万变不离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矩形 13"/>
          <p:cNvSpPr/>
          <p:nvPr/>
        </p:nvSpPr>
        <p:spPr>
          <a:xfrm>
            <a:off x="7441200" y="53229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隶书"/>
              </a:rPr>
              <a:t>宗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Rectangle 3"/>
          <p:cNvSpPr/>
          <p:nvPr/>
        </p:nvSpPr>
        <p:spPr>
          <a:xfrm>
            <a:off x="395280" y="189000"/>
            <a:ext cx="34941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6fc6"/>
                </a:solidFill>
                <a:latin typeface="Century Schoolbook"/>
                <a:ea typeface="华文楷体"/>
              </a:rPr>
              <a:t>做一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3"/>
          <p:cNvSpPr/>
          <p:nvPr/>
        </p:nvSpPr>
        <p:spPr>
          <a:xfrm>
            <a:off x="324000" y="260280"/>
            <a:ext cx="34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6fc6"/>
                </a:solidFill>
                <a:latin typeface="Century Schoolbook"/>
                <a:ea typeface="华文楷体"/>
              </a:rPr>
              <a:t>试一试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Object 3"/>
              <p:cNvSpPr txBox="1"/>
              <p:nvPr/>
            </p:nvSpPr>
            <p:spPr>
              <a:xfrm>
                <a:off x="1643040" y="3000240"/>
                <a:ext cx="2129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Object 4"/>
              <p:cNvSpPr txBox="1"/>
              <p:nvPr/>
            </p:nvSpPr>
            <p:spPr>
              <a:xfrm>
                <a:off x="5143680" y="2786040"/>
                <a:ext cx="172872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2" name="Object 5"/>
              <p:cNvSpPr txBox="1"/>
              <p:nvPr/>
            </p:nvSpPr>
            <p:spPr>
              <a:xfrm>
                <a:off x="2340000" y="1382760"/>
                <a:ext cx="3384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且y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3" name="Text Box 6"/>
          <p:cNvSpPr/>
          <p:nvPr/>
        </p:nvSpPr>
        <p:spPr>
          <a:xfrm>
            <a:off x="539640" y="1211400"/>
            <a:ext cx="7632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已知                  判断下列等式是否成立，并说明理由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Text Box 7"/>
          <p:cNvSpPr/>
          <p:nvPr/>
        </p:nvSpPr>
        <p:spPr>
          <a:xfrm>
            <a:off x="466560" y="134136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5" name="Object 7"/>
          <p:cNvGraphicFramePr/>
          <p:nvPr/>
        </p:nvGraphicFramePr>
        <p:xfrm>
          <a:off x="7491240" y="4768920"/>
          <a:ext cx="324000" cy="5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91240" y="4768920"/>
                    <a:ext cx="3240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0:51:11Z</dcterms:created>
  <dc:creator>lenovo</dc:creator>
  <dc:description/>
  <cp:keywords/>
  <dc:language>en-US</dc:language>
  <cp:lastModifiedBy>USER</cp:lastModifiedBy>
  <cp:lastPrinted>1899-12-30T00:00:00Z</cp:lastPrinted>
  <dcterms:modified xsi:type="dcterms:W3CDTF">2013-11-11T02:14:04Z</dcterms:modified>
  <cp:revision>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